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4349-9520-4A9F-989C-8E14AADE6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BDFD-6A9B-4918-BB96-7760614E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37B8-D120-4993-8E7F-8E2E29E6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8211-9331-415C-8372-7954B020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9CCC-1292-4FD1-B18E-0525E863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CE37-0F7C-4799-837B-60C09A1D3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66B3-5B59-4E54-86EA-74E15A7F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D21-C4B1-47BB-B674-5A036A7E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CA1-237C-48D5-8E36-178D4226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559-1F3B-4987-9294-1D331FA6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5EE-9B7E-44DD-9F88-EA5A3C35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C6EE-8DED-4A08-97A7-BD261434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C30B-7F4B-4378-B430-86BB3CD9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F8CD-E2C5-4835-8058-88D45669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2C3D-10F9-4DAE-8D9C-D4A6BA99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600A-ABF9-4BAF-AB8C-3A3A92E2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9BDC-88C5-4A8D-A5BE-9DFF29EA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2726-578B-46E6-9F3A-89E0ADE5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BA4-B806-427B-A41F-C08CC05D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C1BA-6F0B-4F66-9CCB-4C1A799D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A2C8-BA31-4E0B-90AB-5EEBC581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6477-D24C-4C5B-9970-0F03D52B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F5D4-551F-4C92-A0D4-270C43AC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09BC-280D-43B6-8F47-1B7A912C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7CA4-0F3B-403A-A9F3-3B5C0080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C977-FAD3-4E41-B63F-70E22B4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3B64-23E3-41A5-BD30-53E9E589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0D0D-20AD-480D-BA19-D6B5CCB9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A3EC-2E1D-4E62-AF9B-7189CA13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CD1-F23F-4F24-89AB-1D57253E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D8C8-5EA4-40A6-984D-317E2556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A808-C25F-476F-9609-98B83786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25FC-8DE7-459C-A3EC-6A6F21E9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2FFE-83D3-4B23-89E1-4C598FD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FD10-92BF-497B-962A-C08B1E86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5CF1-AD35-43E1-9EA4-BFFE499E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4C7C8-5844-4865-8DC2-D0501355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4DF7B-BD7B-4E55-990B-E354F5DA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A5092-E19B-42A6-A1B7-48DE88EF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B0577-A7FA-408F-98E1-2B68C53E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85F-2109-4FBB-A083-D67935BD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823A2-EFAA-4A0F-A3F3-BEB29033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976A5-9621-47DD-987F-7E0BA51F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0ABEB7-949D-40ED-B38C-67295EA9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34157-B754-4FB3-A30D-6FED39EE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4A992-7927-47FB-A2B6-10A32F89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4580B-25F0-4863-B26D-7B02D25A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09627-4DD8-477E-AC9E-BB5E709B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620ED-4396-4A7D-BACC-2771A0CF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D511B-F80F-43B4-B19E-D2DF6CDC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0B22C-CCCD-493F-A104-839CE17D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1F6-7A01-45BE-8294-F49015F9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49AA0-684E-45FE-A67A-6880E1D9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B352B-E1F5-4CB5-92AC-D150A8DC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ED57B-3462-4E1B-9AC8-5A14660C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3D79-BCB4-4234-8DE0-3D1A1557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8C59-0F38-408F-A0B6-F2293362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1D3F4-6D05-4195-B274-EAD78EA1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9029F-E77F-4146-8A5D-14759ECD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B2706-037A-465D-B586-EC11F1D4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816E6-B9B5-4CF3-A1BA-C4F46456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2BFB8-F26B-459D-87D9-A8C0BBDD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A67-DEB4-498F-8957-AD102412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FA174-29B7-4B3F-9655-6A3AF4BA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0107C-BD66-42E9-8CFB-3D9792E7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C71AD-B673-41EE-B8A6-5F6B4CD3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36DA2-5FE1-4ACF-98B9-EF77A7D2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23104-52BB-4A1D-AD5C-E97B7861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3535D-4F6F-4298-A0E4-2A284362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2F4E4-BE88-410F-999B-674E708E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29331-002E-4095-A0A7-7DE77688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DACEA-993C-4EC1-8568-273862B4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4CEB4-D87E-4168-80D3-233D79B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90D-2229-4764-8415-E607006E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64A2D-9680-46BE-9AA8-54B01851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8F330-EDD9-4A76-B9F4-CF8010AB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729D0-BBE8-444E-8975-8994FC22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D2FCB-43CD-4C3F-9830-BC84EAB3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A81D3-2E73-4A32-9BED-835912C8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A7D9E7-9152-48D3-AB3A-FF3516E4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C9036-247B-4E92-B4CE-DCBCAC91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B2E3E-2CA6-4880-AB71-1BAD8A63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4E54F-C413-4E4A-AF02-957B66C4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38B24-9286-42AE-8ACD-830654A3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26C-27A9-4062-ACC4-A1193A83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E5DDF-3FD1-4BF4-B346-55A354DC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5B1C6-FDDA-46A3-8686-DAC8CA0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A1943-15D3-4E3B-875B-CAB646E4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F9FF9-7FB0-495E-B025-D805FC24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E969B-B9D4-40F3-9BB2-65555941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A9028D-5277-4E02-ACE1-DBF0A131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9CF7E6-179F-48B8-B1D2-048F4FB8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458C69-6393-4C10-8194-0B418E46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02732-5B68-441D-BA6E-9D95321B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A1880-FD43-47DD-B539-17ADEDFC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8CD-825E-4477-B0EE-E4F55E2F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886D9C-1209-4A6F-9C02-4972E726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806B12-9E72-4476-8DF4-CBA420A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3BA7F8-3E1D-45B6-BACC-D530034E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09C5E5-D948-42CF-832A-112E74B2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36F8DC-5DD1-420C-9E23-6F61044F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8AD7D5-BF0D-416A-99C5-58E6A839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67F3B8-5793-40D0-AE72-20B45B4E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39FE-8F0D-4AE7-BC39-87EB5D268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4DC3-B862-4655-97BC-14B6995E8E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8A5E-6D7C-484B-A4B1-80A9CEE5DF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FAC8-02B4-4BD1-BC6B-E71F82CE4C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71CA-8620-49A0-91F7-0D4FCEC45F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C9DD-B41C-484B-A5F2-D5B69D4307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514E-A9FE-4D5B-A44A-077EFF06DC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BCFD-C321-4F8E-BF9B-E07FCAC7BA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HON, PHONE, PHONO, PHON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28240" y="167616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ou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onic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phone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micr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small; a millionth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onograp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mpho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egapho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pho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acopho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6" descr="phonograph"/>
          <p:cNvPicPr/>
          <p:nvPr/>
        </p:nvPicPr>
        <p:blipFill>
          <a:blip r:embed="rId1"/>
          <a:stretch/>
        </p:blipFill>
        <p:spPr>
          <a:xfrm>
            <a:off x="609480" y="4800600"/>
            <a:ext cx="1943280" cy="1600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megaphone"/>
          <p:cNvPicPr/>
          <p:nvPr/>
        </p:nvPicPr>
        <p:blipFill>
          <a:blip r:embed="rId2"/>
          <a:stretch/>
        </p:blipFill>
        <p:spPr>
          <a:xfrm>
            <a:off x="2895480" y="472428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microphone.jpg"/>
          <p:cNvPicPr/>
          <p:nvPr/>
        </p:nvPicPr>
        <p:blipFill>
          <a:blip r:embed="rId3"/>
          <a:stretch/>
        </p:blipFill>
        <p:spPr>
          <a:xfrm>
            <a:off x="3429000" y="28954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symphony.jpg"/>
          <p:cNvPicPr/>
          <p:nvPr/>
        </p:nvPicPr>
        <p:blipFill>
          <a:blip r:embed="rId4"/>
          <a:stretch/>
        </p:blipFill>
        <p:spPr>
          <a:xfrm>
            <a:off x="152280" y="2743200"/>
            <a:ext cx="2514600" cy="1600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telephone.jpg"/>
          <p:cNvPicPr/>
          <p:nvPr/>
        </p:nvPicPr>
        <p:blipFill>
          <a:blip r:embed="rId5"/>
          <a:stretch/>
        </p:blipFill>
        <p:spPr>
          <a:xfrm>
            <a:off x="7315200" y="51814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cacophony.jpg"/>
          <p:cNvPicPr/>
          <p:nvPr/>
        </p:nvPicPr>
        <p:blipFill>
          <a:blip r:embed="rId6"/>
          <a:stretch/>
        </p:blipFill>
        <p:spPr>
          <a:xfrm>
            <a:off x="7010280" y="228600"/>
            <a:ext cx="19051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L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240" y="16765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lygam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lyg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lyhedr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nopol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lytheis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\Polynesia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nesia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island)/Micronesia (small islands)/ Melanesia- island of dark-skinned peop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5" descr="melaneisans"/>
          <p:cNvPicPr/>
          <p:nvPr/>
        </p:nvPicPr>
        <p:blipFill>
          <a:blip r:embed="rId1"/>
          <a:stretch/>
        </p:blipFill>
        <p:spPr>
          <a:xfrm>
            <a:off x="304920" y="3200400"/>
            <a:ext cx="3809880" cy="3505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micronesians"/>
          <p:cNvPicPr/>
          <p:nvPr/>
        </p:nvPicPr>
        <p:blipFill>
          <a:blip r:embed="rId2"/>
          <a:stretch/>
        </p:blipFill>
        <p:spPr>
          <a:xfrm>
            <a:off x="6019920" y="0"/>
            <a:ext cx="2752560" cy="1676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polygamy.jpg"/>
          <p:cNvPicPr/>
          <p:nvPr/>
        </p:nvPicPr>
        <p:blipFill>
          <a:blip r:embed="rId3"/>
          <a:stretch/>
        </p:blipFill>
        <p:spPr>
          <a:xfrm>
            <a:off x="3048120" y="1981080"/>
            <a:ext cx="1600200" cy="1476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polygon.jpg"/>
          <p:cNvPicPr/>
          <p:nvPr/>
        </p:nvPicPr>
        <p:blipFill>
          <a:blip r:embed="rId4"/>
          <a:stretch/>
        </p:blipFill>
        <p:spPr>
          <a:xfrm>
            <a:off x="2819520" y="304920"/>
            <a:ext cx="2057400" cy="1095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monopoly.jpg"/>
          <p:cNvPicPr/>
          <p:nvPr/>
        </p:nvPicPr>
        <p:blipFill>
          <a:blip r:embed="rId5"/>
          <a:stretch/>
        </p:blipFill>
        <p:spPr>
          <a:xfrm>
            <a:off x="4648320" y="5610240"/>
            <a:ext cx="122868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600200"/>
            <a:ext cx="274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car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oor or gat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arbor or hav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rtab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rter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er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one who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a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ir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m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x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ss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ans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5" descr="passport"/>
          <p:cNvPicPr/>
          <p:nvPr/>
        </p:nvPicPr>
        <p:blipFill>
          <a:blip r:embed="rId1"/>
          <a:stretch/>
        </p:blipFill>
        <p:spPr>
          <a:xfrm>
            <a:off x="152280" y="434340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seaport"/>
          <p:cNvPicPr/>
          <p:nvPr/>
        </p:nvPicPr>
        <p:blipFill>
          <a:blip r:embed="rId2"/>
          <a:stretch/>
        </p:blipFill>
        <p:spPr>
          <a:xfrm>
            <a:off x="2514600" y="228600"/>
            <a:ext cx="2438280" cy="20685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porter.jpg"/>
          <p:cNvPicPr/>
          <p:nvPr/>
        </p:nvPicPr>
        <p:blipFill>
          <a:blip r:embed="rId3"/>
          <a:stretch/>
        </p:blipFill>
        <p:spPr>
          <a:xfrm>
            <a:off x="2971800" y="3962520"/>
            <a:ext cx="1523880" cy="2133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airport.jpg"/>
          <p:cNvPicPr/>
          <p:nvPr/>
        </p:nvPicPr>
        <p:blipFill>
          <a:blip r:embed="rId4"/>
          <a:stretch/>
        </p:blipFill>
        <p:spPr>
          <a:xfrm>
            <a:off x="6705720" y="3352680"/>
            <a:ext cx="2209680" cy="1438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teleport.jpg"/>
          <p:cNvPicPr/>
          <p:nvPr/>
        </p:nvPicPr>
        <p:blipFill>
          <a:blip r:embed="rId5"/>
          <a:stretch/>
        </p:blipFill>
        <p:spPr>
          <a:xfrm>
            <a:off x="7467480" y="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28240" y="1676520"/>
            <a:ext cx="3962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fter in time, place or posi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humousl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pone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after in time, place, or position, etc) 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pon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to put, place, or se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scrip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meridi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morte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nat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9" name="Picture 6" descr="postmeridian.jpg"/>
          <p:cNvPicPr/>
          <p:nvPr/>
        </p:nvPicPr>
        <p:blipFill>
          <a:blip r:embed="rId1"/>
          <a:stretch/>
        </p:blipFill>
        <p:spPr>
          <a:xfrm>
            <a:off x="3429000" y="3809880"/>
            <a:ext cx="1638360" cy="19051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postscript.jpg"/>
          <p:cNvPicPr/>
          <p:nvPr/>
        </p:nvPicPr>
        <p:blipFill>
          <a:blip r:embed="rId2"/>
          <a:stretch/>
        </p:blipFill>
        <p:spPr>
          <a:xfrm>
            <a:off x="762120" y="3505320"/>
            <a:ext cx="16761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E-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efore in time, place or posi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dic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histor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moni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scrib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c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fix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lu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judg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Picture 6" descr="predict.jpg"/>
          <p:cNvPicPr/>
          <p:nvPr/>
        </p:nvPicPr>
        <p:blipFill>
          <a:blip r:embed="rId1"/>
          <a:stretch/>
        </p:blipFill>
        <p:spPr>
          <a:xfrm>
            <a:off x="3352680" y="2819520"/>
            <a:ext cx="1695600" cy="1495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prehistoric.jpg"/>
          <p:cNvPicPr/>
          <p:nvPr/>
        </p:nvPicPr>
        <p:blipFill>
          <a:blip r:embed="rId2"/>
          <a:stretch/>
        </p:blipFill>
        <p:spPr>
          <a:xfrm>
            <a:off x="7086600" y="152280"/>
            <a:ext cx="1638360" cy="1524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prejudge.jpg"/>
          <p:cNvPicPr/>
          <p:nvPr/>
        </p:nvPicPr>
        <p:blipFill>
          <a:blip r:embed="rId3"/>
          <a:stretch/>
        </p:blipFill>
        <p:spPr>
          <a:xfrm>
            <a:off x="2514600" y="441972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prescribe.jpg"/>
          <p:cNvPicPr/>
          <p:nvPr/>
        </p:nvPicPr>
        <p:blipFill>
          <a:blip r:embed="rId4"/>
          <a:stretch/>
        </p:blipFill>
        <p:spPr>
          <a:xfrm>
            <a:off x="762120" y="3505320"/>
            <a:ext cx="1409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4-28T16:32:19Z</dcterms:modified>
  <cp:revision>31</cp:revision>
  <dc:subject/>
  <dc:title>Roots List #1</dc:title>
</cp:coreProperties>
</file>